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44E-FDA9-4555-BF1B-1A7BE4968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653-C752-4797-872A-24C053EC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7FF1-A206-4360-A120-32F43CE0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FE5-7F1E-46B1-9B28-E873764E3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E2A-05D4-4FED-9F11-329BDD38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73D-F427-406E-B9B8-DCEEACB9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7804-A835-4326-B7CC-422DFDA9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F950-FCF2-497D-A394-D7456FC5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8A5-ADE0-4BB3-96A3-A54FCFFA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FB8-24CE-40BB-8899-6DD26F4F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594-A723-4D40-A985-8AF0FDF1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B1F-E28C-4CAB-81B4-A36FAC6E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A5D8-4695-4A60-9A64-47E626A6D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515772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стрел раскрытый (сон-тра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081%20Прострел%20раскрытый%20(сон-трава)%20-%20Pulsatilla%20patens%20(L.)%20Mill.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4021200" cy="535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он тонколист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069%20Пион%20тонколистный%20-%20Paeonia%20tenuifolia%20L.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4170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580536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стрел луг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00000" y="333360"/>
            <a:ext cx="7240680" cy="54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ябчик рус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20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765000"/>
            <a:ext cx="532944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51664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юльпан Шр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88320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15736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донис весенний, гори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03%20Адонис%20весенний,%20Горицвет%20-%20Adonis%20vernalis%20L.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5614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5516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рандушка обыкнов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012%20Брандушка%20разноцветная%20-%20Bulbocodium%20versicolor%20(Ker-Gawl.)%20Spreng.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704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яной орех (рогульн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015%20Водяной%20орех%20плавающий%20(рогульник,%20чилим)%20-%20Trapa%20natans%20L.%20s.l.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80643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522900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сатик (ирис) карли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028%20Касатик%20(Ирис)%20карликовый%20-%20Iris%20pumila%20L.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63272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537336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асатик (ирис) карликов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031%20Касатик%20(Ирис)%20карликовый%20-%20Iris%20pumila%20L.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63272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73408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сатик (ирис) тонколист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47559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пеечник крупноцветко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95640" y="404640"/>
            <a:ext cx="468144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566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472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472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оцвет вес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5472000" cy="545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7:20:01Z</dcterms:created>
  <dc:creator>ирина</dc:creator>
  <dc:description/>
  <dc:language>en-US</dc:language>
  <cp:lastModifiedBy>ирина</cp:lastModifiedBy>
  <dcterms:modified xsi:type="dcterms:W3CDTF">2011-04-13T17:27:11Z</dcterms:modified>
  <cp:revision>2</cp:revision>
  <dc:subject/>
  <dc:title>Слайд 1</dc:title>
</cp:coreProperties>
</file>