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C65-8EF0-4A75-AF15-0023784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D5B-EEAD-4557-8317-558400F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6A4-B569-4D12-8C24-9E3854C6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C7F-1964-4451-B5A4-904347C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C9A-891D-4233-B852-C7D64338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E02-701A-435E-8749-5C59B8B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3EB-5155-43F6-A4B3-84310D5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DA2-52CD-4CD9-BE96-F3B9EE4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BA4-EB20-4D6D-AA49-E216552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108-060C-452A-93B6-47E30EC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333-0C14-40F9-B859-AEC2B73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080-94A8-4596-934D-680E318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DDD-871F-4273-9BC5-7B680ACB1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962520"/>
            <a:ext cx="88390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 мотивам твор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03640"/>
            <a:ext cx="90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 мотивам творчески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951360"/>
            <a:ext cx="89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утешествие по мотивам творчески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72320" y="3998880"/>
            <a:ext cx="48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8480" y="433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6640" y="4151160"/>
            <a:ext cx="58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 мотивам творче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Изображение 539"/>
          <p:cNvPicPr/>
          <p:nvPr/>
        </p:nvPicPr>
        <p:blipFill>
          <a:blip r:embed="rId1"/>
          <a:stretch/>
        </p:blipFill>
        <p:spPr>
          <a:xfrm>
            <a:off x="228600" y="304920"/>
            <a:ext cx="4114800" cy="624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Изображение 540"/>
          <p:cNvPicPr/>
          <p:nvPr/>
        </p:nvPicPr>
        <p:blipFill>
          <a:blip r:embed="rId2"/>
          <a:stretch/>
        </p:blipFill>
        <p:spPr>
          <a:xfrm>
            <a:off x="4572000" y="380880"/>
            <a:ext cx="4419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2992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есенние зайчики забав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егали по зеле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листочкам деревь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411480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6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ФОГРАФИЧЕСКИЙ МАРА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2944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84840" y="960480"/>
            <a:ext cx="462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Бесед…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.Указ…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.Доклад…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3048120"/>
            <a:ext cx="246240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41680" y="-55440"/>
            <a:ext cx="45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286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57913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65320" y="6778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520"/>
            <a:ext cx="6553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160" y="1697040"/>
            <a:ext cx="3953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…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лыба…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п…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743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685800"/>
            <a:ext cx="632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360" y="1849320"/>
            <a:ext cx="3879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Принес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Захотел 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Съешь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2955000">
            <a:off x="6046200" y="3465360"/>
            <a:ext cx="2179440" cy="194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3520" y="620640"/>
            <a:ext cx="9144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3880" y="685800"/>
            <a:ext cx="6553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27160" y="1925640"/>
            <a:ext cx="4527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Приг…р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Прик…сну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Выр…ст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286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4-26T03:31:5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